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4E1A-E1E8-4DEC-B7F4-9F7F33CDB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34D5-E751-4376-B594-4822B5DE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698-298C-496A-AF97-9C4EFFE0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4DE8-C0BE-4CBC-B5FB-7DE2F57B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1CAD-00CF-431B-B889-A86B5B0D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289E-811E-4AB9-A065-A33EC640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4481-1244-48C9-970E-47CD086F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9A1-CF57-4CDF-9AE2-39B0F3AD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BD5-D241-4B7A-A629-0C877EBC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4CC-A57A-4A62-8593-D158FF1B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6424-2D82-44CC-BEDE-FE1E2EF2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7CF5-E676-4753-8245-E2037EBBB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A945-6595-4473-95D7-5A5CA4F3962D}" type="datetime">
              <a:rPr b="0" lang="tr-TR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1CA6-8282-4443-BD46-2414460A25E5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440" y="1142640"/>
            <a:ext cx="778644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ZIM(İMLÂ) KURALLARI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UYGULAMA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layt Numarası Yer Tutucus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16E9-8021-40A5-BA9B-51CB914536B6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56800" y="785880"/>
            <a:ext cx="78296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let, ülke ve bölge, kıta, deniz, okyanus, göl, akarsu, boğaz, geçit, dağ, tepe, ova vb. isimleri büyük harfle başla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iye, Türkiye Cumhuriyeti…</a:t>
            </a:r>
            <a:br>
              <a:rPr sz="2400"/>
            </a:b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tı Almanya, Batı Trakya, Güney Yemen, Doğu Avrupa, Doğu Anadolu Bölgesi…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deniz, Karadeniz, Büyük Okyanus,Van Gölü, Kızılırmak, İstanbul Boğazı,Elmadağ, Uludağ,Konya Ovası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ön bildiren kelimeler bir bölge veya ülke adından önce gelirse büyük, sonra gelirse küçük yazılır.</a:t>
            </a:r>
            <a:br>
              <a:rPr sz="2400"/>
            </a:b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uzey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Kıbrıs'a tatile gittik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ıbrıs'ın </a:t>
            </a: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uzeyine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atile gittik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ğu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adolu'nun coğrafyası..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dolu'nun </a:t>
            </a: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ğusundaki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ağlar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28800" y="785880"/>
            <a:ext cx="77580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l, İlçe, Semt, mahalle, cadde, bulvar, sokak, pasaj, çarşı, park isimleri büy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kara, İstanbul, Mamak, Yenişehir,Atatürk Bulvarı, Gönül Sokak, Şaziyem Pasajı, Kuyumcular Çarşısı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y, köşk, han, kale, köprü, anıt vb yapı adlarına ait bütün kelimeler büy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pkapı Sarayı, Çankaya Köşkü, Ankara Kalesi, Galata Köprüsü, Atakule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zegen ve yıldız adları büyük harfle başlar. Ancak dünya, güneş ve ay kelimeleri terim olarak (astronomi ve coğrafya terimi) kullanılıyorsa özel isim olduğu için büyük; diğer anlamlarında (gerçek, mecaz, yan, eş, deyim vb.) kullanılıyorsa cins ismi olduğu için küç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zın Güneş ışınları Dünya'ya dik olarak gelir.</a:t>
            </a:r>
            <a:br>
              <a:rPr sz="2400"/>
            </a:b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bahtan beri dünya kadar yer dolaştık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 ve gün adları, belirli bir tarih belirttiğinde büyük; bunun dışında küç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 Kasım 2011 Pazartesi günü konferans yapılac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 yıl temmuz sıcaklarında kavrulduk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lî ve dinî bayramlarla bayram niteliği kazanmış günler büyük harfle başlar. Ancak genel nitelik arz edenler, tarihi dönem bildirmeyip tür  ve tarz bildirenler küç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mhuriyet Bayramı, Ramazan Bayramı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yatro günü, kitap haftası, film haftası, sağlık haftası, dil kurultayı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28800" y="857160"/>
            <a:ext cx="77580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1: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birimleri büyük harfle başlamaz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lar, lira, yeni kuruş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2: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adlar yerine kullanılan 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o"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zamiri cümle içinde büyük harfle yazılma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0080" y="2285640"/>
            <a:ext cx="74296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ısaltmaların Yazımı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ısaltma; bir kelime, terim veya özel adın içerdiği harflerden biri veya birkaçı ile daha kısa olarak ifade edilmesi ve sembolleştirilmesidir. Yapılan kısaltmaların benimsenmesi, yaygınlaşması ve herkes tarafından anlaşılması gerek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A, AB, ABD, age.,AKM, Alb., Alm.,Apt., AŞTİ, Av.,bk., DGM, dm, GAP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28800" y="928440"/>
            <a:ext cx="7758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um, kuruluş, müessese, makam, üniversite adlarının kısaltmalarında bütün harfler büyüktür. Harfler arasına nokta koymaya gerek yokt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T, TBMM, İTÜ, DSİ, TDK, TTK, MEB, AÜ DTCF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 kısaltmalardan sonra gelen çekim ekleri kesme ile ayrılır. Ekler son harfin okunuşuna göre belirlenir; kelimenin uzun şeklinin okunuşuna göre deği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B'e, TBMM'nin, DTCF'ne değil DTCF'ye, İTÜ'nden değil İTÜ'den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856800" y="1071720"/>
            <a:ext cx="78296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isim veya unvan olan bir kelime birkaç harfle kısaltılıyorsa yalnız ilk harf büyük yazılır. Bu kısaltmalara ek getirilirken kelimenin uzun şeklinin okunuşu esas alınır; ekler kesmeyle ayrılmaz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f., İst., Doç., Dr., Av., Alb….</a:t>
            </a:r>
            <a:br>
              <a:rPr sz="2400"/>
            </a:b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m., İng., Kocatepe Mah., Güniz S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st.da, Alm.yı, İng.y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1720" y="2143080"/>
            <a:ext cx="7286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yıların Yazımı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7160" y="214272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ÜYÜK HARFLERİN KULLANILDIĞI YERL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28800" y="928440"/>
            <a:ext cx="7758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ılar metin içerisinde yazıyla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n yıldan beri, dört kardeş,iki hafta sonra, üçüncü sını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na karşılık saat, para tutarı, ölçü, istatistik verilere ilişkin sayılarda rakam kullan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.30'da, 1.500.000 lira,1.250.000 kişi, % 25, % 50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ile ilgili işlem ve senet, çek vb. ticarî belgelerde geçen sayılar bitişik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50,35 (altıyüzelliTL,otuzbeşK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856800" y="785880"/>
            <a:ext cx="78296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en rakamları ancak yüzyıllarda, hükümdar adlarında, tarihlerde ayların yazılışında, kitap ve dergi ciltlerinde ve kitapların asıl bölümlerinden önceki sayfaların numaralandırılmasında kullanılabili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X. yüzyıl, III. Selim,VIII. Edward, I. Cilt, XII. Cil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ş ve beşten çok rakamlı sayılar sondan sayılmak üzere üçlü gruplara ayrılarak yazılır ve araya nokta konur: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6.19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leştirme sayıları rakamla değil yazıyla belirtili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'şer değil ikişer, 9'ar değil dokuzar, 100’er değil yüze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57160" y="857160"/>
            <a:ext cx="78580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ıra sayıları yazıyla ve rakamla gösterilebilir. Rakamla gösterilmesi durumunda ya rakamdan sonra bir nokta konur ya da rakamdan sonra kesme işareti konularak derece gösteren ek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., 56., XX.; 5'inci, 6'ncı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ıra sayıları ekle gösterildiğinde rakamdan sonra sadece kesme işareti ve ek yazılır; ayrıca nokta konmaz: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'inci değil 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'inci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.'nci değil 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'nci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0080" y="235692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tişik Yazılışlar</a:t>
            </a:r>
            <a:br>
              <a:rPr sz="5400"/>
            </a:b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856800" y="928440"/>
            <a:ext cx="782964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 düşmesine uğrayan birleşik kelimeler bitişik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aynana (&lt; kayın ana), nasıl (&lt; ne asıl), niçin (&lt; ne için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rbiri (&lt; biri bir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- ve ol- y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dımcı fiilleriyle birleşirken ses düşmesine veya ses türemesine uğrayan birleşik kelimeler bitişik yaz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mretmek (&lt;emir etmek); kaybolmak (&lt;kayıp olmak);   affetmek (&lt;af etmek); reddetmek (&lt;ret etmek)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856800" y="857160"/>
            <a:ext cx="78296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imelerden her ikisi veya ikincisi, birleşme sırasında benzetme yoluyla anlam değişmesine uğradığında bu tür birleşik kelimeler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tki adları: aslanağzı, keçiboynuzu, kuşburnu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yvan adları: danaburnu (böcek), akbaş (kuş), alabacak (at)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iyecek adları: dilberdudağı, kedidili, tavukgöğsü, vezirparmağı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yun adları: beştaş, dokuztaş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k adları: 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klaçiçeği, balköpüğü, camgöbeği, yavruağzı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856800" y="714240"/>
            <a:ext cx="78296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veya iki ögesi emir kipiyle kurulan kalıplaşmış birleşik kelimeler bitişik yaz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aşağı, albeni, ateşkes, rastgele, veryansın, yapboz, yazboz tahtası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/-en, -r/-ar/-er/-ır/-ir, -maz/-mez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-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ış/-miş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ıfat-fiil eklerinin kalıplaşmasıyla oluşan birleşik kelimeler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nkurtaran, çöpçatan,yolgeçen; bilgisayar;  etyemez, hacıyatmaz; çokbilmiş, güngörmüş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857160" y="857160"/>
            <a:ext cx="81439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ut olarak yer bildirmeyen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, üst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e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zeri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nin sona getirilmesiyle kurulan birleşik kelimeler bitişik yazılır (somut olarak belirtenler ayrı yazılır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yakaltı, bilinçaltı, gözaltı; akşamüstü, akşamüzeri, ayaküstü, bayramüstü, gerçeküstü, olağanüstü,suçüstü, yüzüstü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 veya daha çok kelimenin birleşmesinden oluşmuş kişi adları, soyadları ve lakaplar bitişik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per, Aydoğdu, Gülnihal, Gülseren, Gündoğdu,Abasıyanık, Karaosmanoğlu,Yurdakul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57160" y="785520"/>
            <a:ext cx="8072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 veya daha çok kelimeden oluşmuş Türkçe yer adları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anakkale, Gümüşhane; Acıpayam, Pınarbaşı, Şebinkarahisar; Beşiktaş, Kabataş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ehir, kent, köy, mahalle, dağ, tepe, deniz, göl, ırmak, su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b. kelimelerle kurulmuş sıfat tamlaması ve belirtisiz isim tamlaması kalıbındaki yer adları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şehir,  Suşehri, Yenişehir; Atakent, Uludağ; Kocatepe, Tınaztepe; Akdeniz, Acıgöl,Akç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28800" y="785880"/>
            <a:ext cx="77580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şi adları ve unvanlarından oluşmuş mahalle, meydan, köy vb. yer ve kuruluş adlarında unvan kelimesi sonda ise, gelenekleşmiş olarak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rampaşa,Ertuğrulgazi, Kemalpaşa (ilçesi)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 yönleri belirten kelimeler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üneybatı, güneydoğu, kuzeybatı, kuzeydoğ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57160" y="1143000"/>
            <a:ext cx="7858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fabemizde her harfin bir büyük, bir de küçük şekli vardır. Yazıda yaygın olarak küçük harf kullanılır. Ancak belirli yerlerde büyük harf kullanılmalıdır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üyük harfle küçük harf arasında okunuş olarak fark olmasa da yazılış olarak büyük farklar vardır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57160" y="64296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ne, name, zade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kelimeleriyle oluşturulan birleşik kelimeler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ayhane, dershane, kahvehane, yazıhane;beyanname, kanunname, seyahatname, siyasetname; amcazad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Eczahane, hastahane, pastahane, postahane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 kullanımdaki yaygınlık dolayısıyla 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zane, hastane, pastane, postane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içiminde yazılmaktad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57160" y="785520"/>
            <a:ext cx="80726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nlardan başka dilimizde her iki öğesi de asıl anlamını koruduğu hâlde yaygın bir biçimde gelenekleşmiş olarak bitişik yazılan kelimeler de vardır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ş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üyle oluşturulan sıfat tamlamaları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şbakan,başyazar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topluluğun yöneticisi anlamındaki </a:t>
            </a:r>
            <a:r>
              <a:rPr b="1" i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şı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üyle oluşturulan belirtisiz isim tamlamaları: </a:t>
            </a:r>
            <a:r>
              <a:rPr b="0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şçıbaşı,onbaşı, ustabaşı, yüzbaşı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ğlu,kızı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r>
              <a:rPr b="0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apanoğlu,elkızı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ğa, bey, efendi, hanım, nine 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. sözlerle kurulan birleşik kelimeler: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ğababa, ağabey, beyefendi, efendibaba, hanımanne, hanımefendi, hacıağa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raz, birkaç, birkaçı, birtakım, birçok, birçoğu, hiçbir, hiçbiri, herhangi 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irsizlik sıfat ve zamirleri de gelenekleşmiş olarak bitişik yazılır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28440" y="713880"/>
            <a:ext cx="80722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yrı Yazılış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mek, edilmek, eylemek, kılmak, kılınmak, olmak, olunmak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dımcı fiilleriyle kurulan birleşik fiiller herhangi bir ses düşmesine veya türemesine uğramazsa ayrı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 etmek, arz etmek, azat etmek, boş olmak, dans etmek, el etmek, sağ olmak, söz etmek, terk etmek, var olmak,yok olma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28440" y="857160"/>
            <a:ext cx="77864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leşme sırasında kelimelerinden hiçbiri veya ikinci kelimesi anlam değişikliğine uğramayan birleşik kelimeler ayrı yazılı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van türlerinden birinin adıyla kurulanla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ılıç balığı,muhabbet kuşu, ağustos böceği,at sineği, deniz yılanı, Ankara keçisi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ki türlerinden birinin adıyla kurulanlar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yrık otu, beşparmak otu, çörek otu,dağ elması</a:t>
            </a:r>
            <a:r>
              <a:rPr b="0" i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Çiçek dışında anlamlar taşıyan baklaçiçeği (renk), narçiçeği (renk), suçiçeği(hastalık)  ve yaygın bir biçimde gelenekleşmiş olan </a:t>
            </a:r>
            <a:r>
              <a:rPr b="0" i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zotu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eotu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itişik yazılı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28440" y="785880"/>
            <a:ext cx="77864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ne, eşya ve alet adlarından biriyle kurulan birleşik kelimel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çı taşı, bileği taşı, çakmak taşı, arap sabunu, el sabunu, tuz ruhu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um, olgu ve olay bildiren sözlerden biriyle kurulan birleşik kelimele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çık oturum, açık öğretim, ana dili, ay tutulması, baş ağrısı, güç birliği, iş birliği, ses uyumu, yer çeki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m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e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gi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yle kurulan birleşik kelimeler: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lam bilimi, gök bilimi, halk bilimi, dil bilgisi, halk bilgisi, ses bilgisi, şekil bilgi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57160" y="785520"/>
            <a:ext cx="7858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iyecek, içecek adlarından biriyle kurulan birleşik kelimele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hça böreği, su böreği,  çiçek yağı, Urfa kebabı; İnegöl köftesi, ezogelin çorbası, irmik helvası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 veya organ yerine geçen sözlerden biriyle kurulan birleşik kelimel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tlak göz, süzgün göz; aşık kemiği, azı dişi, takma diş, karga burun, kepçe kulak,demir yumruk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zetme yoluyla insanın bir niteliğini anlatmak üzere bitki, hayvan ve nesne adlarıyla kurulan birleşik kelimele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etin ceviz, çöpsüz üzüm; eski kurt, sarı çıyan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57160" y="713880"/>
            <a:ext cx="81439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 / -ar / -er, -maz / -mez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an / -en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ıfat-fiil ekleriyle kurulan sıfat tamlaması yapısındaki birleşik kelimeler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kar kör, çalar saat,  güler yüz; çıkmaz sokak, geçmez akçe, görünmez kaza,tükenmez kalem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k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ü veya renklerden birinin adıyla kurulmuş isim tamlaması yapısındaki renk adları ayrı yazılır: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l rengi, gece mavisi, limon sarısı, süt kır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gin tonunu belirtmek üzere renkten önce kullanılan sıfatlar ayrı yaz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çık mavi,  kirli sarı, koyu mavi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856800" y="857160"/>
            <a:ext cx="79297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r adlarında kullanılan </a:t>
            </a:r>
            <a:r>
              <a:rPr b="1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tı, doğu, güney, kuzey, güneybatı, güneydoğu, kuzeybatı, kuzeydoğu, aşağı, orta, yukarı, iç, yakın, uzak 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imeleri ayrı yazılır: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ğu Anadolu, Orta Asya, Yakın Doğu, Uzak Doğu, Güneybatı Anadolu, İç Asy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şi adlarından oluşmuş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halle, bulvar, cadde, sokak, ilçe, köy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. yer ve kuruluş adlarında sondaki unvanlar hariç, şahıs adları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unus Emre Mahallesi; Gazi Mustafa Kemal Bulvarı; Nene Hatun Caddesi;Sütçü İmam Üniversite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857160" y="857160"/>
            <a:ext cx="78580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ış, iç, öte, sıra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özleriyle oluşturulan birleşik kelime ve terimler ayrı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hlak dışı, çağ dışı, yasa dışı; ceviz içi, hafta içi, yurt içi; kızıl ötesi, mor ötesi; aklı sıra, ardı sıra, peşi sıra, yanı sı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ut olarak yer belirten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st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yle oluşturulan birleşik kelime ve terimler ayrı yaz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ri altı, su altı, toprak altı, yer altı (yüzey); arka üstü, böbrek üstü bezi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28800" y="114264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, üst, ana, ön, art, arka, yan, karşı, iç, dış, orta, büyük, küçük, sağ, sol, peşin, bir, iki, tek, çok, çift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nin başa getirilmesiyle oluşturulan birleşik kelime ve terimler ayrı yazılır: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 yazı, ana bilim dalı, ana dili; yan cümle, yan etki; karşı görüş, iç savaş, orta kulak, büyük baba; sol bek; tek eşli, çok hücreli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28800" y="928440"/>
            <a:ext cx="7758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 cümlenin ilk kelimesi büyük harfle başlar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ktayla, iki noktayla, üç noktayla, soru ve ünlem işaretleriyle biten cümlelerden sonra gelen cümleler büyük harfle baş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iirde her mısra (birkaç mısra bir cümle oluştursa da) büyük harfle başlar. Günümüz şiir kitaplarında bu kurala çoğunlukla uyulmamaktad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yimlerin Yazım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eyimler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Calibri"/>
              </a:rPr>
              <a:t>akıntıya kürek çekmek, göz atmak, kulak vermek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28440" y="785520"/>
            <a:ext cx="8072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kilemelerin Yazım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lemeler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ım adım, ağır ağır, 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ta çık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e yapılmış ikilemeler de ayrı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 mat, çocuk mocuk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sim durum ekleri ve iyelik ekiyle yapılan ikilemeler de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ş başa, diz dize, baştan başa, daldan dala, ardı ardına, günü günün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56800" y="981000"/>
            <a:ext cx="7572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ynakç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SARAYLI, İsmail (2007), Yükseköğretim Öğrencileri İçin Türk Dili, Manisa: Emek Matbaacılı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ER, Süer(2003), Çağdaş Türk Dili, Ankara: Akçağ  Yayınları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İROSMANOĞLU, Ali, Türkçe-Kompozisyon, Emek Matbaası, Manisa 2006</a:t>
            </a: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ÜNEŞ, Sezai(2004), Türk Dili Bilgisi, İzmir: Çağlayan Matbaas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SOY Yakup, vd. (2001), Üniversiteler İçin Türk Dili ve Kompozisyon Bilgileri, Konya: Selçuk Üniversitesi Yaşatma ve Geliştirme Vakfı Yayınları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ayt Numarası Yer Tutucus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47B1-4AE8-4C38-8669-B19936593D6D}" type="slidenum">
              <a:rPr b="0" lang="tr-TR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 içinde tırnak veya yay ayraç içine alınan cümleler büyük harfle başlar ve sonlarına uygun noktalama işareti (nokta, soru, ünlem vb.) konu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atürk "Muhtaç olduğun kudret, damarlarındaki asil kanda mevcuttur!"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y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 çizgi arasındaki açıklama cümleleri büyük harfle başlamaz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r zamanlar -bu zamanlar çok da uzak değildir, bundan on, on iki yıl önce- Türk saltanatının maddi sınırları uçsuz bucaksız denilecek kadar genişti. 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Yakup Kadri Karaosmanoğl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56800" y="785880"/>
            <a:ext cx="78296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ütün özel isimler (özel ismi oluşturan her kelime ve onları niteleyen, tanıtan unvanlar) büyük harfle başlar. Büyük harfle başlamazsa cins ismi zannedilebilirl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şi adları ve soyadları, takma adlar, kişi adlarından önce ve sonra gelen saygı sözleri, unvanlar ve meslek adları, tarihî kişilerin adlarından önce gelen unvan ve lâkaplar büy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nbaşı Ömer, Doktor Kenan, Avcı Mehmet, Nişancı Mehmet Paş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vanlara verilen özel adlar da büyük harfle başla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rıkız, Fino, Karabaş, Pamuk, Minnoş, Teki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Akrabalık adları bildiren kelimeler büyük harfle başlamaz. Ancak akrabalık kelimeleri başta gelirse büyük harfle baş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Fahriye abla, Ayşe teyze, Numan amca...</a:t>
            </a:r>
            <a:br>
              <a:rPr sz="2000"/>
            </a:b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Nene Hatun, Baba Gündüz, Dayı Kemal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28800" y="1071720"/>
            <a:ext cx="7758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mî yazılarda saygı bildiren sözlerden sonra gelen makam mevki, unvan bildiren kelimeler büy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yın Bakan, Sayın Başkan, Sayın Profesör, Sayın Vali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um, kuruluş, kurul, müessese, makam, üniversite isimlerinde büyük harf kullan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iye Büyük Millet Meclisi, Mamak Anadolu Lisesi,Türk Dil Kurumu, Ege Üniversitesi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28800" y="785520"/>
            <a:ext cx="7758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let, kavim, boy, oymak, din, mezhep isimleri ve bunlara mensup olanlara verilen isimlerde büyük harf kullan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, Türkler, Yunan, İngiliz,Arap,Müslüman, Musevî, Hıristiyan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 ve lehçe isimler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çe, Farsça, Fransızca, Macarc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8T20:23:04Z</dcterms:created>
  <dc:creator>atiye</dc:creator>
  <dc:description/>
  <dc:language>en-US</dc:language>
  <cp:lastModifiedBy>tuba</cp:lastModifiedBy>
  <dcterms:modified xsi:type="dcterms:W3CDTF">2014-10-15T11:24:34Z</dcterms:modified>
  <cp:revision>235</cp:revision>
  <dc:subject/>
  <dc:title>Slayt 1</dc:title>
</cp:coreProperties>
</file>